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73FF4-38A5-4758-8A59-7AF3DE84A4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ACD26-4BDF-461F-9C6A-D21F17F5F4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791DF-492A-4F3C-B467-515C795C91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1FA2F-7568-4104-B5DF-5F2644C945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B48FE-BBE1-4796-95B0-3B513AB1B8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41801-1E86-4537-8534-5CE98CF378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005A2-BEC7-459C-B4EB-25E258466D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E2BEE-64D9-4570-BC8F-CC83012001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609480"/>
            <a:ext cx="708660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D72AE-67BD-4522-9FA1-E34C9C0FF5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BF6CB-CF35-4640-AFE2-BB3EFF464A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ABBEB-EC39-4B2D-9AFC-0FBD08EB29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1109A-E101-43FD-B206-042782B93C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2286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07696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-</a:t>
            </a:r>
            <a:fld id="{ED5A9C94-75B8-4069-A1E4-B12D20A4662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380880" y="646200"/>
            <a:ext cx="609840" cy="503280"/>
          </a:xfrm>
          <a:prstGeom prst="rect">
            <a:avLst/>
          </a:prstGeom>
          <a:solidFill>
            <a:srgbClr val="ed6b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7.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-</a:t>
            </a:r>
            <a:fld id="{D8DEFE76-92E0-456D-AB6A-4D494DEFD6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futur simpl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4201200" y="4235400"/>
            <a:ext cx="424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uel ne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digera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s ses devoirs s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vieille machine à écr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342900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-</a:t>
            </a:r>
            <a:fld id="{D8E68D0A-4D52-4E6D-AC9C-32DDC3FBED5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future tense instead of the imperative to make a command sound more force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33520" y="2743200"/>
          <a:ext cx="8229600" cy="1828800"/>
        </p:xfrm>
        <a:graphic>
          <a:graphicData uri="http://schemas.openxmlformats.org/drawingml/2006/table">
            <a:tbl>
              <a:tblPr/>
              <a:tblGrid>
                <a:gridCol w="4038480"/>
                <a:gridCol w="419112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endras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 restaurant avec nous ce soir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 will come to the restaurant with us tonigh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us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rez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ser le message à votre professeur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’ll pass along the message to your teacher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futur simpl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-</a:t>
            </a:r>
            <a:fld id="{04F7AB0B-CB3D-439D-BE8A-8B480498839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ès qu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 soon 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the verb in the future tense if the action takes place in the future. The verb in the main clause should be in the future or the imper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00120" y="3002040"/>
          <a:ext cx="8001000" cy="2711520"/>
        </p:xfrm>
        <a:graphic>
          <a:graphicData uri="http://schemas.openxmlformats.org/drawingml/2006/table">
            <a:tbl>
              <a:tblPr/>
              <a:tblGrid>
                <a:gridCol w="1523880"/>
                <a:gridCol w="2971800"/>
                <a:gridCol w="3505320"/>
              </a:tblGrid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FU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MAIN CLAUSE: FUTURE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OR IMPERA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ès qu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 </a:t>
                      </a:r>
                      <a:r>
                        <a:rPr b="1" lang="en-US" sz="21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aurez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 brevet,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 </a:t>
                      </a:r>
                      <a:r>
                        <a:rPr b="1" lang="en-US" sz="21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pourrez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dre votre inventio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0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d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 </a:t>
                      </a:r>
                      <a:r>
                        <a:rPr b="1" lang="en-US" sz="21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seras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s l’ovni,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pos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 questions aux extraterrestres!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futur simpl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-</a:t>
            </a:r>
            <a:fld id="{BA41B861-F46F-4FE9-9617-F769BCA7A5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kind of structure can be used with the conjunction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sitôt qu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 soon 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rsqu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t qu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Note that in English, the verb following them is most often in the present t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04920" y="3540240"/>
          <a:ext cx="8686800" cy="1828800"/>
        </p:xfrm>
        <a:graphic>
          <a:graphicData uri="http://schemas.openxmlformats.org/drawingml/2006/table">
            <a:tbl>
              <a:tblPr/>
              <a:tblGrid>
                <a:gridCol w="4114800"/>
                <a:gridCol w="457200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us vous recevrons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ssitôt que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us arriverez au laboratoir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 will welcome you as soon as </a:t>
                      </a:r>
                      <a:br>
                        <a:rPr sz="2100"/>
                      </a:b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 arrive at the laboratory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nt qu’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ls seront curieux, les astronomes étudieront l’origine de l’univer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 long as they’re curious, astronomers will study the universe’s origi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futur simpl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-</a:t>
            </a:r>
            <a:fld id="{01BAE2E5-73DB-4C17-8C18-E16897B59D0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alk about events that might occur in the future, use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..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f..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nstruction. Use the present tense i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use and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 proc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 si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imperativ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main clause. Remember t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ct to bec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’i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33520" y="3768840"/>
          <a:ext cx="8381880" cy="2011320"/>
        </p:xfrm>
        <a:graphic>
          <a:graphicData uri="http://schemas.openxmlformats.org/drawingml/2006/table">
            <a:tbl>
              <a:tblPr/>
              <a:tblGrid>
                <a:gridCol w="4343400"/>
                <a:gridCol w="4038480"/>
              </a:tblGrid>
              <a:tr h="2014200">
                <a:tc>
                  <a:txBody>
                    <a:bodyPr lIns="90000" rIns="365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’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l y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 film intéressant à la télé ce soir,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le-moi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there’s an interesting movie on TV tonight, tell m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36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ïcha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hète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 appareil numérique, elle m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nera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n appareil traditionnel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Aïcha buys a digital camera, she’ll give me her traditional camera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futur simpl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-</a:t>
            </a:r>
            <a:fld id="{07F806EF-B315-4E14-A0F9-C231D7CD944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06440" indent="-29196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have learned to u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to say that something is going to happen in the immediate future (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 proc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To talk about something that will happen further ahead in time, us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 si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futur simpl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5"/>
          <p:cNvSpPr/>
          <p:nvPr/>
        </p:nvSpPr>
        <p:spPr>
          <a:xfrm>
            <a:off x="685800" y="3276720"/>
            <a:ext cx="7924680" cy="2286000"/>
          </a:xfrm>
          <a:prstGeom prst="roundRect">
            <a:avLst>
              <a:gd name="adj" fmla="val 22347"/>
            </a:avLst>
          </a:prstGeom>
          <a:solidFill>
            <a:srgbClr val="fff0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6"/>
          <p:cNvSpPr/>
          <p:nvPr/>
        </p:nvSpPr>
        <p:spPr>
          <a:xfrm>
            <a:off x="685800" y="4191120"/>
            <a:ext cx="7924680" cy="2057400"/>
          </a:xfrm>
          <a:prstGeom prst="roundRect">
            <a:avLst>
              <a:gd name="adj" fmla="val 22347"/>
            </a:avLst>
          </a:prstGeom>
          <a:solidFill>
            <a:srgbClr val="fef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7"/>
          <p:cNvSpPr/>
          <p:nvPr/>
        </p:nvSpPr>
        <p:spPr>
          <a:xfrm>
            <a:off x="685800" y="3781440"/>
            <a:ext cx="7924680" cy="914400"/>
          </a:xfrm>
          <a:prstGeom prst="rect">
            <a:avLst/>
          </a:prstGeom>
          <a:solidFill>
            <a:srgbClr val="fef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914400" y="3352680"/>
          <a:ext cx="7467480" cy="2895840"/>
        </p:xfrm>
        <a:graphic>
          <a:graphicData uri="http://schemas.openxmlformats.org/drawingml/2006/table">
            <a:tbl>
              <a:tblPr/>
              <a:tblGrid>
                <a:gridCol w="3305160"/>
                <a:gridCol w="4162320"/>
              </a:tblGrid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 algn="ctr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 proch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 algn="ctr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 simpl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1840">
                <a:tc>
                  <a:txBody>
                    <a:bodyPr lIns="90000" rIns="90000" tIns="137160" bIns="46800" anchor="t">
                      <a:noAutofit/>
                    </a:bodyPr>
                    <a:p>
                      <a:pPr marL="11448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is effacer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dernière phrase avant de sauvegarder mon essai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m going to erase the last sentence before saving my essay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5da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37160" bIns="46800" anchor="t">
                      <a:noAutofit/>
                    </a:bodyPr>
                    <a:p>
                      <a:pPr marL="11448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s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acerons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photos de l’appareil après les avoir imprimée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will erase the pictures on the camera after printing them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5da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-</a:t>
            </a:r>
            <a:fld id="{1293E571-224E-4BA0-8EB4-0CAA5BDBB8B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the simple future of regula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i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s by adding these endings to the infinitive. For regula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s, tak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 the infinitive before adding the e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685800" y="2895480"/>
            <a:ext cx="7924680" cy="2274840"/>
          </a:xfrm>
          <a:prstGeom prst="roundRect">
            <a:avLst>
              <a:gd name="adj" fmla="val 22347"/>
            </a:avLst>
          </a:prstGeom>
          <a:solidFill>
            <a:srgbClr val="fff0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5"/>
          <p:cNvSpPr/>
          <p:nvPr/>
        </p:nvSpPr>
        <p:spPr>
          <a:xfrm>
            <a:off x="685800" y="3798720"/>
            <a:ext cx="7924680" cy="2449800"/>
          </a:xfrm>
          <a:prstGeom prst="roundRect">
            <a:avLst>
              <a:gd name="adj" fmla="val 22347"/>
            </a:avLst>
          </a:prstGeom>
          <a:solidFill>
            <a:srgbClr val="fef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685800" y="3389400"/>
            <a:ext cx="7924680" cy="914400"/>
          </a:xfrm>
          <a:prstGeom prst="rect">
            <a:avLst/>
          </a:prstGeom>
          <a:solidFill>
            <a:srgbClr val="fef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914400" y="2960640"/>
          <a:ext cx="8001000" cy="3287880"/>
        </p:xfrm>
        <a:graphic>
          <a:graphicData uri="http://schemas.openxmlformats.org/drawingml/2006/table">
            <a:tbl>
              <a:tblPr/>
              <a:tblGrid>
                <a:gridCol w="1371600"/>
                <a:gridCol w="1981080"/>
                <a:gridCol w="2286000"/>
                <a:gridCol w="2362320"/>
              </a:tblGrid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 algn="ctr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l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ussi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endr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73880">
                <a:tc>
                  <a:txBody>
                    <a:bodyPr lIns="90000" rIns="90000" tIns="137160" bIns="46800" anchor="t">
                      <a:noAutofit/>
                    </a:bodyPr>
                    <a:p>
                      <a:pPr marL="114480"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/j’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/ell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s/elle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5da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37160" bIns="46800" anchor="t">
                      <a:noAutofit/>
                    </a:bodyPr>
                    <a:p>
                      <a:pPr marL="114480"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ler</a:t>
                      </a:r>
                      <a:r>
                        <a:rPr b="1" lang="en-US" sz="21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ai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ler</a:t>
                      </a:r>
                      <a:r>
                        <a:rPr b="1" lang="en-US" sz="21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a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ler</a:t>
                      </a:r>
                      <a:r>
                        <a:rPr b="1" lang="en-US" sz="21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ler</a:t>
                      </a:r>
                      <a:r>
                        <a:rPr b="1" lang="en-US" sz="21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on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ler</a:t>
                      </a:r>
                      <a:r>
                        <a:rPr b="1" lang="en-US" sz="21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z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ler</a:t>
                      </a:r>
                      <a:r>
                        <a:rPr b="1" lang="en-US" sz="21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on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5da9"/>
                      </a:solidFill>
                    </a:lnL>
                    <a:lnR w="13680">
                      <a:solidFill>
                        <a:srgbClr val="005da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37160" bIns="46800" anchor="t">
                      <a:noAutofit/>
                    </a:bodyPr>
                    <a:p>
                      <a:pPr marL="114480"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ussir</a:t>
                      </a:r>
                      <a:r>
                        <a:rPr b="1" lang="en-US" sz="21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ai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ussir</a:t>
                      </a:r>
                      <a:r>
                        <a:rPr b="1" lang="en-US" sz="21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a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ussir</a:t>
                      </a:r>
                      <a:r>
                        <a:rPr b="1" lang="en-US" sz="21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ussir</a:t>
                      </a:r>
                      <a:r>
                        <a:rPr b="1" lang="en-US" sz="21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on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ussir</a:t>
                      </a:r>
                      <a:r>
                        <a:rPr b="1" lang="en-US" sz="21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z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ussir</a:t>
                      </a:r>
                      <a:r>
                        <a:rPr b="1" lang="en-US" sz="21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on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5da9"/>
                      </a:solidFill>
                    </a:lnL>
                    <a:lnR w="13680">
                      <a:solidFill>
                        <a:srgbClr val="005da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37160" bIns="46800" anchor="t">
                      <a:noAutofit/>
                    </a:bodyPr>
                    <a:p>
                      <a:pPr marL="114480"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endr</a:t>
                      </a:r>
                      <a:r>
                        <a:rPr b="1" lang="en-US" sz="21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ai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endr</a:t>
                      </a:r>
                      <a:r>
                        <a:rPr b="1" lang="en-US" sz="21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a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endr</a:t>
                      </a:r>
                      <a:r>
                        <a:rPr b="1" lang="en-US" sz="21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endr</a:t>
                      </a:r>
                      <a:r>
                        <a:rPr b="1" lang="en-US" sz="21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on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endr</a:t>
                      </a:r>
                      <a:r>
                        <a:rPr b="1" lang="en-US" sz="21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z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0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endr</a:t>
                      </a:r>
                      <a:r>
                        <a:rPr b="1" lang="en-US" sz="21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on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5da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futur simpl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-</a:t>
            </a:r>
            <a:fld id="{D62C443D-CD80-4367-8D24-9FB437DE73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lling-chang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s undergo the same change in the future tense as they do in the pre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09480" y="2692440"/>
          <a:ext cx="7162920" cy="2870280"/>
        </p:xfrm>
        <a:graphic>
          <a:graphicData uri="http://schemas.openxmlformats.org/drawingml/2006/table">
            <a:tbl>
              <a:tblPr/>
              <a:tblGrid>
                <a:gridCol w="3276720"/>
                <a:gridCol w="3886200"/>
              </a:tblGrid>
              <a:tr h="2870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me prom</a:t>
                      </a:r>
                      <a:r>
                        <a:rPr b="1" lang="en-US" sz="21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è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’emplo</a:t>
                      </a:r>
                      <a:r>
                        <a:rPr b="1" lang="en-US" sz="21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’essa</a:t>
                      </a:r>
                      <a:r>
                        <a:rPr b="1" lang="en-US" sz="21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’essa</a:t>
                      </a:r>
                      <a:r>
                        <a:rPr b="1" lang="en-US" sz="21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’appe</a:t>
                      </a:r>
                      <a:r>
                        <a:rPr b="1" lang="en-US" sz="21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ll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proje</a:t>
                      </a:r>
                      <a:r>
                        <a:rPr b="1" lang="en-US" sz="21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tt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me prom</a:t>
                      </a:r>
                      <a:r>
                        <a:rPr b="1" lang="en-US" sz="21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è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rai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’emplo</a:t>
                      </a:r>
                      <a:r>
                        <a:rPr b="1" lang="en-US" sz="21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ai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’essa</a:t>
                      </a:r>
                      <a:r>
                        <a:rPr b="1" lang="en-US" sz="21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ai 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’essa</a:t>
                      </a:r>
                      <a:r>
                        <a:rPr b="1" lang="en-US" sz="21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ai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’appe</a:t>
                      </a:r>
                      <a:r>
                        <a:rPr b="1" lang="en-US" sz="21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ll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ai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proje</a:t>
                      </a:r>
                      <a:r>
                        <a:rPr b="1" lang="en-US" sz="21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tt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ai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Picture 81" descr="p101"/>
          <p:cNvPicPr/>
          <p:nvPr/>
        </p:nvPicPr>
        <p:blipFill>
          <a:blip r:embed="rId1"/>
          <a:stretch/>
        </p:blipFill>
        <p:spPr>
          <a:xfrm>
            <a:off x="2895480" y="2692440"/>
            <a:ext cx="838440" cy="24382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futur simpl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-</a:t>
            </a:r>
            <a:fld id="{BACC8696-C0B6-4C5D-8C34-07AE8C76704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s with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the infinitive ending, such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pér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éfér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épé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o not undergo a spelling change in the future t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33520" y="3200400"/>
          <a:ext cx="7619760" cy="1143000"/>
        </p:xfrm>
        <a:graphic>
          <a:graphicData uri="http://schemas.openxmlformats.org/drawingml/2006/table">
            <a:tbl>
              <a:tblPr/>
              <a:tblGrid>
                <a:gridCol w="3809880"/>
                <a:gridCol w="380988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us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ggérerons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à Fatih qu’il reste chez nou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 will suggest to Fatih that he stay with u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futur simpl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-</a:t>
            </a:r>
            <a:fld id="{C252B746-8621-45A3-B25C-1531C8851C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common verbs have an irregular future stem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the future endings to these 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762120" y="2590920"/>
          <a:ext cx="7772400" cy="358128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447920"/>
                <a:gridCol w="1295280"/>
                <a:gridCol w="1219320"/>
                <a:gridCol w="1371600"/>
              </a:tblGrid>
              <a:tr h="406440">
                <a:tc>
                  <a:txBody>
                    <a:bodyPr lIns="0" rIns="90000" tIns="46800" bIns="46800" anchor="t">
                      <a:noAutofit/>
                    </a:bodyPr>
                    <a:p>
                      <a:pPr marL="114480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infin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fu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infin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fu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4840">
                <a:tc>
                  <a:txBody>
                    <a:bodyPr lIns="0" rIns="90000" tIns="46800" bIns="46800" anchor="t">
                      <a:noAutofit/>
                    </a:bodyPr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o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r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o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oy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êt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lo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r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ir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aur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courr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devr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enverr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ser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fer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faudr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mourr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’ir</a:t>
                      </a: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’aur</a:t>
                      </a: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courr</a:t>
                      </a: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devr</a:t>
                      </a: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’enverr</a:t>
                      </a: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ser</a:t>
                      </a: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fer</a:t>
                      </a: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faudr</a:t>
                      </a: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mourr</a:t>
                      </a: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euvo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uvo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vo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vo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lo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pleuvr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pourr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recevr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saur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tiendr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vaudr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viendr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verr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voud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pleuvr</a:t>
                      </a: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pourr</a:t>
                      </a: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recevr</a:t>
                      </a: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saur</a:t>
                      </a: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tiendr</a:t>
                      </a: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vaudr</a:t>
                      </a: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viendr</a:t>
                      </a: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verr</a:t>
                      </a: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voudr</a:t>
                      </a:r>
                      <a:r>
                        <a:rPr b="0" lang="en-US" sz="18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futur simpl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-</a:t>
            </a:r>
            <a:fld id="{5BFADC15-15C9-4BA2-99F9-848AD588F5C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23960" y="1571760"/>
          <a:ext cx="7696080" cy="3271680"/>
        </p:xfrm>
        <a:graphic>
          <a:graphicData uri="http://schemas.openxmlformats.org/drawingml/2006/table">
            <a:tbl>
              <a:tblPr/>
              <a:tblGrid>
                <a:gridCol w="2514600"/>
                <a:gridCol w="2666880"/>
                <a:gridCol w="2514600"/>
              </a:tblGrid>
              <a:tr h="402840">
                <a:tc>
                  <a:txBody>
                    <a:bodyPr lIns="0" rIns="0" tIns="0" bIns="0" anchor="t">
                      <a:noAutofit/>
                    </a:bodyPr>
                    <a:p>
                      <a:pPr marL="228600" indent="-228600" algn="ctr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ec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spcAft>
                          <a:spcPts val="13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TTENTION!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e6d099"/>
                      </a:solidFill>
                    </a:lnB>
                    <a:solidFill>
                      <a:srgbClr val="ed6b4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8600" indent="-228600" algn="ctr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ec6"/>
                    </a:solidFill>
                  </a:tcPr>
                </a:tc>
              </a:tr>
              <a:tr h="2868840">
                <a:tc gridSpan="3">
                  <a:txBody>
                    <a:bodyPr lIns="228600" rIns="228600" tIns="228600" bIns="137160" anchor="t">
                      <a:noAutofit/>
                    </a:bodyPr>
                    <a:p>
                      <a:pPr>
                        <a:spcAft>
                          <a:spcPts val="19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ercevoir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 a future stem like that of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voir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Similarly,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nir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enir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 lik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ir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and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tenir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enir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 lik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ir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’apercevrai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 reviendrez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s maintiendron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8600" marR="2286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e6d099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eee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futur simpl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-</a:t>
            </a:r>
            <a:fld id="{5E311B43-6916-4EB5-A2E2-1937691E431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80520" y="15235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s in the simple future are usually translated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il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al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Engl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33520" y="2743200"/>
          <a:ext cx="8229600" cy="2946240"/>
        </p:xfrm>
        <a:graphic>
          <a:graphicData uri="http://schemas.openxmlformats.org/drawingml/2006/table">
            <a:tbl>
              <a:tblPr/>
              <a:tblGrid>
                <a:gridCol w="4190760"/>
                <a:gridCol w="4038840"/>
              </a:tblGrid>
              <a:tr h="29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us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rons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 lecteur de DVD dans notre chambr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 will have a DVD player in </a:t>
                      </a:r>
                      <a:br>
                        <a:rPr sz="2100"/>
                      </a:b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r room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 jour, on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urra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 promener sur la planète Mar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 day, we will be able to walk on Mar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futur simpl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-</a:t>
            </a:r>
            <a:fld id="{004CA893-7759-4425-9B1C-CC54C0243C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723960" y="1571760"/>
          <a:ext cx="7696080" cy="3990960"/>
        </p:xfrm>
        <a:graphic>
          <a:graphicData uri="http://schemas.openxmlformats.org/drawingml/2006/table">
            <a:tbl>
              <a:tblPr/>
              <a:tblGrid>
                <a:gridCol w="2514600"/>
                <a:gridCol w="2666880"/>
                <a:gridCol w="2514600"/>
              </a:tblGrid>
              <a:tr h="425160">
                <a:tc>
                  <a:txBody>
                    <a:bodyPr lIns="0" rIns="0" tIns="0" bIns="0" anchor="t">
                      <a:noAutofit/>
                    </a:bodyPr>
                    <a:p>
                      <a:pPr marL="228600" indent="-228600" algn="ctr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ec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spcAft>
                          <a:spcPts val="13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TTENTION!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e6d099"/>
                      </a:solidFill>
                    </a:lnB>
                    <a:solidFill>
                      <a:srgbClr val="ed6b4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8600" indent="-228600" algn="ctr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ec6"/>
                    </a:solidFill>
                  </a:tcPr>
                </a:tc>
              </a:tr>
              <a:tr h="3565800">
                <a:tc gridSpan="3">
                  <a:txBody>
                    <a:bodyPr lIns="228600" rIns="228600" tIns="228600" bIns="137160" anchor="t">
                      <a:noAutofit/>
                    </a:bodyPr>
                    <a:p>
                      <a:pPr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spoken French, the present tense is used sometimes to express future actions.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s nous retrouvons au cybercafé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re meeting at the cybercafé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the present tense of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oir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[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ive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 to express an action that you suppose will happe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oît doit arriver dans les prochains jour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oît must be arriving in the next few day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8600" marR="2286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e6d099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eee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futur simpl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9:11:18Z</dcterms:created>
  <dc:creator>© and ® 2011 Vista Higher Learning, Inc.</dc:creator>
  <dc:description/>
  <dc:language>en-US</dc:language>
  <cp:lastModifiedBy>Ursuline Academy</cp:lastModifiedBy>
  <dcterms:modified xsi:type="dcterms:W3CDTF">2016-02-23T13:55:25Z</dcterms:modified>
  <cp:revision>194</cp:revision>
  <dc:subject>D'accord! 3 • Leçon 7: Les sciences et la technologie</dc:subject>
  <dc:title>7.2 The futur simple</dc:title>
</cp:coreProperties>
</file>